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A7A4-6715-42DA-AA7E-51CBC6A06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DFCA-6DAA-4958-BCAF-9AC048A7A9C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96F-1C5E-4D97-942B-2D96CBB6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DFF-02BC-4888-B013-3362067F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50CC-ABDD-476D-95C7-579F21C0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BEF9-A057-42C1-9A4C-97EC8552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5F86-ADC2-409A-B3C1-6A8ACB6B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292B-14EA-4013-BF6C-EA6D1996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AF47-63B8-47DB-8169-A067A422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B31F-FCBD-46B0-9B42-C0BF8176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CB4D-5B6A-4C42-A0A9-7E7517C2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FA1D-902D-4AE5-A535-00108A2A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3644-6C5D-49FC-8C83-9FEA7DC4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1D51-EE96-4DD0-9CC7-3505FD2A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E099-DE04-4C00-B68C-D5BAC528D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het.colorado.edu/simulations/sims.php?sim=Circuit_Construction_Kit_DC_Only" TargetMode="External"/><Relationship Id="rId2" Type="http://schemas.openxmlformats.org/officeDocument/2006/relationships/hyperlink" Target="http://phet.colorado.edu/simulations/sims.php?sim=Circuit_Construction_Kit_DC_Only" TargetMode="External"/><Relationship Id="rId3" Type="http://schemas.openxmlformats.org/officeDocument/2006/relationships/hyperlink" Target="http://phet.colorado.edu/simulations/sims.php?sim=Circuit_Construction_Kit_DC_Only" TargetMode="External"/><Relationship Id="rId4" Type="http://schemas.openxmlformats.org/officeDocument/2006/relationships/hyperlink" Target="http://phet.colorado.edu/simulations/sims.php?sim=Circuit_Construction_Kit_DC_Only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n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1958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3/15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1257480"/>
            <a:ext cx="1389240" cy="552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"/>
          <p:cNvSpPr txBox="1"/>
          <p:nvPr/>
        </p:nvSpPr>
        <p:spPr>
          <a:xfrm>
            <a:off x="228600" y="30492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llel Circui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057400" y="2506680"/>
          <a:ext cx="6858000" cy="30402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One bulb burns out the rest stay li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fficult to constru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s more bulbs are added they burn equally brigh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k of overheating from too little resistanc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4724280" y="380880"/>
            <a:ext cx="419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A circuit that has many paths for electricity to fl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137952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440" y="21301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et a good night’s sleep and eat breakfast in the morn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TPChart"/>
          <p:cNvGraphicFramePr/>
          <p:nvPr/>
        </p:nvGraphicFramePr>
        <p:xfrm>
          <a:off x="4508640" y="2514600"/>
          <a:ext cx="4572000" cy="42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514600"/>
                    <a:ext cx="457200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is NOT required to construct a simple circu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648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lb (resis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ttery (energy sour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tch (open/clo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re (conduc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AnswerNow"/>
          <p:cNvGrpSpPr/>
          <p:nvPr/>
        </p:nvGrpSpPr>
        <p:grpSpPr>
          <a:xfrm>
            <a:off x="3460680" y="6286680"/>
            <a:ext cx="2222640" cy="444240"/>
            <a:chOff x="3460680" y="6286680"/>
            <a:chExt cx="2222640" cy="444240"/>
          </a:xfrm>
        </p:grpSpPr>
        <p:sp>
          <p:nvSpPr>
            <p:cNvPr id="90" name="ANShape"/>
            <p:cNvSpPr/>
            <p:nvPr/>
          </p:nvSpPr>
          <p:spPr>
            <a:xfrm>
              <a:off x="3460680" y="6286680"/>
              <a:ext cx="222264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NText"/>
            <p:cNvSpPr/>
            <p:nvPr/>
          </p:nvSpPr>
          <p:spPr>
            <a:xfrm>
              <a:off x="3460680" y="62866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76320" y="76320"/>
            <a:ext cx="5796720" cy="914400"/>
            <a:chOff x="76320" y="76320"/>
            <a:chExt cx="5796720" cy="91440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13381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 txBox="1"/>
            <p:nvPr/>
          </p:nvSpPr>
          <p:spPr>
            <a:xfrm>
              <a:off x="1447560" y="187200"/>
              <a:ext cx="4425480" cy="73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76320" y="990720"/>
            <a:ext cx="899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Rockwell"/>
              </a:rPr>
              <a:t>Electromagnet        Fishing Derby 20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3280" y="1143000"/>
            <a:ext cx="1443240" cy="1600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236000" y="304920"/>
            <a:ext cx="1768320" cy="1904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905120" y="2971800"/>
            <a:ext cx="5333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TEP 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4327560"/>
            <a:ext cx="8991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ke out your switch and Project Worksheet.  Draw your switch in the open and  closed position if you have not already done s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3749" t="17001" r="13749" b="11002"/>
          <a:stretch/>
        </p:blipFill>
        <p:spPr>
          <a:xfrm>
            <a:off x="457200" y="533520"/>
            <a:ext cx="8001000" cy="6000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3200400"/>
            <a:ext cx="4267080" cy="2362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 EFD STEP 2: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Circuit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 good night’s sleep and eat breakfa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not required to create a working circu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B6E2E901-FF55-4FA4-9785-5C26391BE22B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onstruct series and parallel circuits using wires, light bulbs, switches, and an energy source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-a-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the bulb at your table by creating a simple circuit using the materials provided to your lab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REQUIRED TO BUILD A CIRCU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demonstrate that each person has a switch that works by wiring it into your circuit and turning your light on and o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THE TEACHER THAT YOUR SWITCH WORKS SO WE CAN GIVE YOU 3 POINTS ON YOUR PROJECT WORK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the website below and practice building series and parallel circu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het.colorado.edu/simulations/sims.php?sim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ircuit_Construction_Kit_DC_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green “RUN NOW” button to begin th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THE NEXT SLIDE FOR DIRECTION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ies and Parallel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 series circuit using wires, a battery, and 3 bul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the number of batteries, what happe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one of the bulbs, what happe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 parallel circuit using wires, a battery, and 3 bul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e brightness of the bulbs compare to the series circu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one of the bulbs, what happe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advantages and disadvantages of each type of circuit based on your experience with them? (See pages 64-6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91320" y="1066680"/>
            <a:ext cx="2655720" cy="4876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18125" t="18999" r="40628" b="31003"/>
          <a:stretch/>
        </p:blipFill>
        <p:spPr>
          <a:xfrm>
            <a:off x="457200" y="1828800"/>
            <a:ext cx="464832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3754440" cy="377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"/>
          <p:cNvSpPr txBox="1"/>
          <p:nvPr/>
        </p:nvSpPr>
        <p:spPr>
          <a:xfrm>
            <a:off x="228600" y="30492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ries Circui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114800" y="2467080"/>
          <a:ext cx="4876920" cy="309564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</a:tblGrid>
              <a:tr h="71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ta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Simple to construc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ne bulb goes out they all go ou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ulbs get dimmer as more are add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4572000" y="317520"/>
            <a:ext cx="441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A circuit with only 1 path for electricity to fl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373356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0:13:27Z</dcterms:created>
  <dc:creator>CCPS</dc:creator>
  <dc:description/>
  <dc:language>en-US</dc:language>
  <cp:lastModifiedBy>CCPS</cp:lastModifiedBy>
  <dcterms:modified xsi:type="dcterms:W3CDTF">2010-03-16T00:14:17Z</dcterms:modified>
  <cp:revision>3</cp:revision>
  <dc:subject/>
  <dc:title>Slide 1</dc:title>
</cp:coreProperties>
</file>